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4D32-8642-474F-B8CD-971FD280D70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FBF0-5717-45AA-A090-EDFCD769716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AA0A-3F55-44B6-8C28-0332485B20E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0B74-BAEA-4768-B4AB-BE4E506F68C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5E91-017E-4E08-AA32-7979FD59B6D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16D1-1060-4791-AB81-19331C717BD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1813-4643-4F91-BBC5-A4BC424A1EB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B9C1-43BC-4AFE-ABAC-42432B9F317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BA7E-0BFD-4D2E-810E-AFD1444C1DC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0493-325F-4B5A-834B-B93F3F6D92E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D37B-D9C0-4C35-AD9F-9C3C1037573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55B1-CE3A-4E61-80EC-C3A0A9EDA4F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5F01-534E-4558-AB5C-9AB82FF2697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F3A1-7C07-4A4A-97A3-526C01EFBAA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2C55E-9267-46C7-BF5F-AA576C058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3084F-ABC9-4C76-A5F5-E265590ED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A15C-B690-4DDA-B5FD-40F81AE8C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0761B-74AE-4C7F-B541-0E269FD975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91002-10E1-497A-8958-99973EBD16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6D3C-5F43-4EAB-987F-60536B214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D69D-7903-4EAA-9EAA-1CD66F19E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16AB-9CC5-4374-B0F5-2AD6F0BF6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0895-8106-4F32-9B5F-E22AA293B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F043-E82A-4C4D-9425-CFA2CE7C9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1E4A-FD49-4F98-BD26-17AEEF040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0536B-7B19-4472-BDD8-BF30AA6DE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4B57-4D5A-44EE-A0D8-76AC2356051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68360" y="407664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첨부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는 본 파일에서 제시하는 구성 및 목차 순으로 제작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폰트 및 배경 등 디자인 요소는 자유롭게 제작 가능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DF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파일로 업로드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324720"/>
            <a:ext cx="878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8360" y="1197000"/>
          <a:ext cx="8136000" cy="2948040"/>
        </p:xfrm>
        <a:graphic>
          <a:graphicData uri="http://schemas.openxmlformats.org/drawingml/2006/table">
            <a:tbl>
              <a:tblPr/>
              <a:tblGrid>
                <a:gridCol w="1150920"/>
                <a:gridCol w="4753080"/>
                <a:gridCol w="2232000"/>
              </a:tblGrid>
              <a:tr h="380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평가방법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042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출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파일로 연구관리시스템에 업로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발표자료 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총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식약처 주관부서에서 진행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※ 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단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, 23212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독성국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202, 23212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독성국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204 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과제는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발표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30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질의응답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25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총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60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으로 구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1"/>
          <p:cNvSpPr/>
          <p:nvPr/>
        </p:nvSpPr>
        <p:spPr>
          <a:xfrm>
            <a:off x="468360" y="5805360"/>
            <a:ext cx="82072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※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제출 후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,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접수된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파일은 절대 수정 불가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※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본 페이지는 발표자료에서 삭제해 주시기 바랍니다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6694560" cy="3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11280" y="1484280"/>
          <a:ext cx="7993080" cy="4827600"/>
        </p:xfrm>
        <a:graphic>
          <a:graphicData uri="http://schemas.openxmlformats.org/drawingml/2006/table">
            <a:tbl>
              <a:tblPr/>
              <a:tblGrid>
                <a:gridCol w="958680"/>
                <a:gridCol w="1262160"/>
                <a:gridCol w="1009800"/>
                <a:gridCol w="2220840"/>
                <a:gridCol w="1211040"/>
                <a:gridCol w="133056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1" name="Text Box 86"/>
          <p:cNvSpPr/>
          <p:nvPr/>
        </p:nvSpPr>
        <p:spPr>
          <a:xfrm>
            <a:off x="7524720" y="1152360"/>
            <a:ext cx="14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외출장의 적절성 </a:t>
            </a:r>
            <a:r>
              <a:rPr b="0" i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(</a:t>
            </a:r>
            <a:r>
              <a:rPr b="0" i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해당사항 없으면 삭제</a:t>
            </a:r>
            <a:r>
              <a:rPr b="0" i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)</a:t>
            </a:r>
            <a:r>
              <a:rPr b="0" i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 장 지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 장 자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 장 비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345456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수행 일정의 적정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31784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적하는 연구결과 도출 가능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3525840" cy="3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성과의 활용 가능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과제제안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FP) </a:t>
            </a:r>
            <a:r>
              <a:rPr b="0" i="1" lang="en-US" sz="16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RFP </a:t>
            </a:r>
            <a:r>
              <a:rPr b="0" i="1" lang="ko-KR" sz="16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11280" y="549360"/>
            <a:ext cx="78483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위과제명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RFP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참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제명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 RFP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참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제번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RFP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참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번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연구관리시스템상 접수번호 참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관연구책임자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관연구기관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세부연구책임자 </a:t>
            </a:r>
            <a:r>
              <a:rPr b="0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: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해당사항 없으면 삭제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세부연구기관 </a:t>
            </a:r>
            <a:r>
              <a:rPr b="0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: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해당사항 없으면 삭제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기간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 월        일     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   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 월        일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해연도 연구개발비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원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(RFP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상 연구비 기입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230184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표 및 필요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374184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계획서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FP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부합성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2662200" cy="3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범위 및 내용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294948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추진전략 및 체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511020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책임자의 역량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업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문성 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6334200" cy="3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수행에 필요한 시설 및 장비 </a:t>
            </a:r>
            <a:r>
              <a:rPr b="0" i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(</a:t>
            </a:r>
            <a:r>
              <a:rPr b="0" i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해당사항 없으면 삭제</a:t>
            </a:r>
            <a:r>
              <a:rPr b="0" i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1368360"/>
          <a:ext cx="8136000" cy="4680000"/>
        </p:xfrm>
        <a:graphic>
          <a:graphicData uri="http://schemas.openxmlformats.org/drawingml/2006/table">
            <a:tbl>
              <a:tblPr/>
              <a:tblGrid>
                <a:gridCol w="2140200"/>
                <a:gridCol w="928440"/>
                <a:gridCol w="1928880"/>
                <a:gridCol w="2211480"/>
                <a:gridCol w="927000"/>
              </a:tblGrid>
              <a:tr h="72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574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1</cp:lastModifiedBy>
  <cp:lastPrinted>2020-02-04T06:07:16Z</cp:lastPrinted>
  <dcterms:modified xsi:type="dcterms:W3CDTF">2022-09-13T01:03:27Z</dcterms:modified>
  <cp:revision>123</cp:revision>
  <dc:subject/>
  <dc:title>2006년도 식품의약품안전청 공개발표 선정평가    ℹ 사 업 명 :   ℹ 과 제 명 :   ℹ 연 구 비 :   ℹ 신청기관 :   ℹ 주관연구책임자 :</dc:title>
</cp:coreProperties>
</file>