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F72-1CF5-4A69-9B1C-62B72C2C62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E27-D29E-4B8A-92E0-E5C69F1E0A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722-3874-4D0D-9415-5BAB69B260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CB0-2765-4A06-A04D-E74B3B80234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43D5-0655-4C1C-821D-85553A4149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E1A5-B0B6-449A-9C64-B2BD0A0C67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5D1-91FC-4D69-9013-DF86933797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6F46-C42E-4F4A-97E5-7AA1DC0C2A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F5B-749D-4B6E-8EE6-DEB7109D6F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EF8-24D6-4353-8CB7-6ADC305253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5AAD-0AB2-438A-B4E5-0616774223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52EB-7962-465F-B534-A338BFE146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61D5-38B1-4339-A927-20E2FB9CF53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2070-C415-47FC-8D69-7808046E65C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99BF-8733-40B8-BAE1-AFE5369A1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CA6E-C814-413B-B25A-3492FAA33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B118-A348-4DEB-B995-3804D83F9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7AB8-621F-4451-A68F-35BBEEBB2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6939-87DD-4DA8-BBD7-EF9B42461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0140-063E-435A-92D3-CC84D1303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BAB2-073A-40E9-8D03-55DDB16B9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B0D5-769F-4D92-AC0B-ADD53F3FB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4298-A8A2-43BF-96F2-0AD5D45B0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A716-C746-4775-9F91-EDE126089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0BE2-C1BB-4DE4-8095-F0D2BC6AB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410D-F71D-48FC-94DA-495D0E566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8E1-80E6-4608-9642-487695F402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3960720"/>
            <a:ext cx="82072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으나 발표시간을 고려하여 제작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정된 시간 외 추가시간 없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으므로 사용 자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lang="ko-KR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기한 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: 2024.12.17(</a:t>
            </a:r>
            <a:r>
              <a:rPr b="0" lang="ko-KR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화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 14:00), </a:t>
            </a:r>
            <a:r>
              <a:rPr b="1" lang="ko-KR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공고 마감 후 발표자료 제출 방법 별도 안내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11</a:t>
            </a:r>
            <a:r>
              <a:rPr b="0" lang="ko-KR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월중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-396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868320"/>
          <a:ext cx="8136000" cy="2948040"/>
        </p:xfrm>
        <a:graphic>
          <a:graphicData uri="http://schemas.openxmlformats.org/drawingml/2006/table">
            <a:tbl>
              <a:tblPr/>
              <a:tblGrid>
                <a:gridCol w="1150920"/>
                <a:gridCol w="3744720"/>
                <a:gridCol w="324036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 대상과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 대상과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자료 제작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서면평가 대상 과제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: 25202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생물안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007,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5212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한임평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003,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5212</a:t>
                      </a:r>
                      <a:r>
                        <a:rPr b="0" lang="ko-KR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석연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003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※ 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 25192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영양안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006, 25202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의약안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005 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과제는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발표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60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으로 구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4-09-26T06:07:42Z</dcterms:modified>
  <cp:revision>136</cp:revision>
  <dc:subject/>
  <dc:title>2006년도 식품의약품안전청 공개발표 선정평가    ℹ 사 업 명 :   ℹ 과 제 명 :   ℹ 연 구 비 :   ℹ 신청기관 :   ℹ 주관연구책임자 :</dc:title>
</cp:coreProperties>
</file>